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8EB-358B-49D4-8F88-9A700526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B8BF-1055-4416-BA46-3400262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5C9-84B1-48E1-B5E8-757EA1C1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A0F-D203-4354-AC80-7A359706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BE5-F51C-4602-A697-25683BD4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EB5-3024-4E7D-93B1-C266ACC7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E06A-73A8-4BA0-ADD5-47B29BA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E7F-2D39-427C-A960-FC8223C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F12-5335-4F77-B571-859392B1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5D3-699E-478C-8782-84C3B50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4FE5-465A-4C0B-86D1-502A0C64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BE2-8BCA-49AC-8FF5-01AC9EEE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C4F-E7DE-4C81-B9CD-E16A27983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ph a linear equations using a table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Graph of an equation is a straight line on a coordinate plane that shows all the points (x,y) that are solutions to the equ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ts try one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up 3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1,2 and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lve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90720" y="3733920"/>
          <a:ext cx="1447560" cy="2070000"/>
        </p:xfrm>
        <a:graphic>
          <a:graphicData uri="http://schemas.openxmlformats.org/drawingml/2006/table">
            <a:tbl>
              <a:tblPr/>
              <a:tblGrid>
                <a:gridCol w="723960"/>
                <a:gridCol w="723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5867280" y="1676520"/>
            <a:ext cx="0" cy="350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2040" y="4495680"/>
            <a:ext cx="434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0600" y="419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780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7800" y="5334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40384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334120" y="1447560"/>
            <a:ext cx="1981080" cy="4647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of values to graph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x + y =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7560" y="624852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Don’t forget to rewrite in fun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3124080"/>
          <a:ext cx="1752480" cy="2286000"/>
        </p:xfrm>
        <a:graphic>
          <a:graphicData uri="http://schemas.openxmlformats.org/drawingml/2006/table">
            <a:tbl>
              <a:tblPr/>
              <a:tblGrid>
                <a:gridCol w="876240"/>
                <a:gridCol w="8762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3505320" y="4876920"/>
            <a:ext cx="52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37160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of values to 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5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3429000"/>
          <a:ext cx="1752840" cy="2286000"/>
        </p:xfrm>
        <a:graphic>
          <a:graphicData uri="http://schemas.openxmlformats.org/drawingml/2006/table">
            <a:tbl>
              <a:tblPr/>
              <a:tblGrid>
                <a:gridCol w="876240"/>
                <a:gridCol w="87660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341960" y="5410080"/>
            <a:ext cx="411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4560" y="1598760"/>
            <a:ext cx="0" cy="434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llenge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 a table to graph 4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2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66680" y="2819520"/>
          <a:ext cx="1676520" cy="310500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505320" y="58672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24382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17:18:08Z</dcterms:created>
  <dc:creator>JRatliff</dc:creator>
  <dc:description/>
  <dc:language>en-US</dc:language>
  <cp:lastModifiedBy>CABELL BOE</cp:lastModifiedBy>
  <dcterms:modified xsi:type="dcterms:W3CDTF">2008-10-23T21:07:48Z</dcterms:modified>
  <cp:revision>4</cp:revision>
  <dc:subject/>
  <dc:title>Slide 1</dc:title>
</cp:coreProperties>
</file>